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7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30.wmf" ContentType="image/x-wmf"/>
  <Override PartName="/ppt/media/image31.jpeg" ContentType="image/jpeg"/>
  <Override PartName="/ppt/media/image32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5.png" ContentType="image/png"/>
  <Override PartName="/ppt/media/image16.png" ContentType="image/png"/>
  <Override PartName="/ppt/media/image17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E8D5-B54D-4BF0-B8B5-5B3246AF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D56A-9799-44E2-A5E7-CABE17FC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93B-1FE5-4833-8F91-01D800A1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A038-C3B7-4FFE-9847-C4242CBCE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304-2954-4D77-8B58-21DFEDD1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16F-C852-4044-BF59-5483A831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544-B2F6-416A-87BD-DE2F1FCF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6E21-E4B0-4651-A502-77D7B2940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436-1C52-40D1-8994-5B072F1A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317-3EC2-4221-9A23-294E9B0B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FAD-03B1-4F86-BE37-B1BBF38D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643-7DA4-4D46-9788-3D03E380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1E7-04C5-4D4F-BC61-27D780C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F27-06CC-4194-A116-9EB7526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F39-21F3-490A-B444-F4E6E18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CE8-834B-40EC-B4C2-71A89D5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527-0C67-407A-AAF0-C9D0866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53A-4010-4E03-8726-FB931A5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ADE-2FA5-48E7-AA1C-9EBAE69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79B-0CA1-4AEC-A331-FC75332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BD6-AAD5-45C0-A6A4-69BA30F8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31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east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7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7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8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2"/>
          <p:cNvGrpSpPr/>
          <p:nvPr/>
        </p:nvGrpSpPr>
        <p:grpSpPr>
          <a:xfrm>
            <a:off x="2511360" y="530280"/>
            <a:ext cx="4048200" cy="847800"/>
            <a:chOff x="2511360" y="530280"/>
            <a:chExt cx="4048200" cy="847800"/>
          </a:xfrm>
        </p:grpSpPr>
        <p:pic>
          <p:nvPicPr>
            <p:cNvPr id="185" name="Rectangle 2" descr=""/>
            <p:cNvPicPr/>
            <p:nvPr/>
          </p:nvPicPr>
          <p:blipFill>
            <a:blip r:embed="rId2"/>
            <a:stretch/>
          </p:blipFill>
          <p:spPr>
            <a:xfrm>
              <a:off x="2511360" y="530280"/>
              <a:ext cx="40482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514600" y="53352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189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5029200" y="5638680"/>
            <a:ext cx="2286000" cy="838440"/>
            <a:chOff x="5029200" y="5638680"/>
            <a:chExt cx="2286000" cy="838440"/>
          </a:xfrm>
        </p:grpSpPr>
        <p:sp>
          <p:nvSpPr>
            <p:cNvPr id="192" name="AutoShape 11"/>
            <p:cNvSpPr/>
            <p:nvPr/>
          </p:nvSpPr>
          <p:spPr>
            <a:xfrm>
              <a:off x="502920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525780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" descr="http://www.tenafly.k12.nj.us/~teisenberg2/worldcultures/images/globe_pple.gif"/>
          <p:cNvPicPr/>
          <p:nvPr/>
        </p:nvPicPr>
        <p:blipFill>
          <a:blip r:embed="rId6"/>
          <a:stretch/>
        </p:blipFill>
        <p:spPr>
          <a:xfrm>
            <a:off x="4724280" y="2057400"/>
            <a:ext cx="2828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9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0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0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0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1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3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4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5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ei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293120" y="4721040"/>
            <a:ext cx="1200600" cy="1603080"/>
            <a:chOff x="1293120" y="4721040"/>
            <a:chExt cx="1200600" cy="1603080"/>
          </a:xfrm>
        </p:grpSpPr>
        <p:sp>
          <p:nvSpPr>
            <p:cNvPr id="53" name="AutoShape 6"/>
            <p:cNvSpPr/>
            <p:nvPr/>
          </p:nvSpPr>
          <p:spPr>
            <a:xfrm rot="16191600">
              <a:off x="1093320" y="4924080"/>
              <a:ext cx="1600200" cy="11966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295280" y="5181480"/>
              <a:ext cx="11966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3a3e0"/>
                  </a:solidFill>
                  <a:latin typeface="Arial"/>
                </a:rPr>
                <a:t>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7" descr="Click_Lensington-Photo.gif"/>
          <p:cNvPicPr/>
          <p:nvPr/>
        </p:nvPicPr>
        <p:blipFill>
          <a:blip r:embed="rId3"/>
          <a:stretch/>
        </p:blipFill>
        <p:spPr>
          <a:xfrm>
            <a:off x="2811600" y="3581280"/>
            <a:ext cx="769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"/>
          <p:cNvGrpSpPr/>
          <p:nvPr/>
        </p:nvGrpSpPr>
        <p:grpSpPr>
          <a:xfrm>
            <a:off x="2664720" y="4722480"/>
            <a:ext cx="1121400" cy="1603080"/>
            <a:chOff x="2664720" y="4722480"/>
            <a:chExt cx="1121400" cy="1603080"/>
          </a:xfrm>
        </p:grpSpPr>
        <p:sp>
          <p:nvSpPr>
            <p:cNvPr id="57" name="AutoShape 10"/>
            <p:cNvSpPr/>
            <p:nvPr/>
          </p:nvSpPr>
          <p:spPr>
            <a:xfrm rot="16191600">
              <a:off x="2425320" y="4965120"/>
              <a:ext cx="1600200" cy="11174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666880" y="5181480"/>
              <a:ext cx="1117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2bfc5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960360" y="4722480"/>
            <a:ext cx="1375200" cy="1603440"/>
            <a:chOff x="3960360" y="4722480"/>
            <a:chExt cx="1375200" cy="1603440"/>
          </a:xfrm>
        </p:grpSpPr>
        <p:sp>
          <p:nvSpPr>
            <p:cNvPr id="60" name="AutoShape 13"/>
            <p:cNvSpPr/>
            <p:nvPr/>
          </p:nvSpPr>
          <p:spPr>
            <a:xfrm rot="16191600">
              <a:off x="3847680" y="4838400"/>
              <a:ext cx="1600200" cy="13712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962520" y="5181480"/>
              <a:ext cx="1371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66ff"/>
                  </a:solidFill>
                  <a:latin typeface="Arial"/>
                </a:rPr>
                <a:t>Geograp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484240" y="4722120"/>
            <a:ext cx="1261080" cy="1603440"/>
            <a:chOff x="5484240" y="4722120"/>
            <a:chExt cx="1261080" cy="1603440"/>
          </a:xfrm>
        </p:grpSpPr>
        <p:sp>
          <p:nvSpPr>
            <p:cNvPr id="63" name="AutoShape 16"/>
            <p:cNvSpPr/>
            <p:nvPr/>
          </p:nvSpPr>
          <p:spPr>
            <a:xfrm rot="16191600">
              <a:off x="5314680" y="4895280"/>
              <a:ext cx="1600200" cy="125712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5486400" y="5181480"/>
              <a:ext cx="12571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Arial"/>
                </a:rPr>
                <a:t>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6932160" y="4722480"/>
            <a:ext cx="1121040" cy="1603080"/>
            <a:chOff x="6932160" y="4722480"/>
            <a:chExt cx="1121040" cy="1603080"/>
          </a:xfrm>
        </p:grpSpPr>
        <p:sp>
          <p:nvSpPr>
            <p:cNvPr id="66" name="AutoShape 19"/>
            <p:cNvSpPr/>
            <p:nvPr/>
          </p:nvSpPr>
          <p:spPr>
            <a:xfrm rot="16191600">
              <a:off x="6692400" y="4965480"/>
              <a:ext cx="1600200" cy="111708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934320" y="5181480"/>
              <a:ext cx="1117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26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289" name="Rectangle 2" descr=""/>
            <p:cNvPicPr/>
            <p:nvPr/>
          </p:nvPicPr>
          <p:blipFill>
            <a:blip r:embed="rId2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Geograph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29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296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4" descr="http://files.turbosquid.com/Preview/Content_on_6_6_2004_21_41_56/earth_highpoly_colored_large.jpg645b24c7-0b69-4898-ad8f-33cb4d3bd003Large.jpg"/>
          <p:cNvPicPr/>
          <p:nvPr/>
        </p:nvPicPr>
        <p:blipFill>
          <a:blip r:embed="rId6"/>
          <a:stretch/>
        </p:blipFill>
        <p:spPr>
          <a:xfrm>
            <a:off x="4419720" y="182880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30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31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2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2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2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3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33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4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4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4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5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5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36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6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6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37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7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8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ectangle 2"/>
          <p:cNvGrpSpPr/>
          <p:nvPr/>
        </p:nvGrpSpPr>
        <p:grpSpPr>
          <a:xfrm>
            <a:off x="2816280" y="603360"/>
            <a:ext cx="4048200" cy="853920"/>
            <a:chOff x="2816280" y="603360"/>
            <a:chExt cx="4048200" cy="853920"/>
          </a:xfrm>
        </p:grpSpPr>
        <p:pic>
          <p:nvPicPr>
            <p:cNvPr id="69" name="Rectangle 2" descr=""/>
            <p:cNvPicPr/>
            <p:nvPr/>
          </p:nvPicPr>
          <p:blipFill>
            <a:blip r:embed="rId2"/>
            <a:stretch/>
          </p:blipFill>
          <p:spPr>
            <a:xfrm>
              <a:off x="2816280" y="603360"/>
              <a:ext cx="40482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9520" y="6094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Ar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7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5638680" y="5638680"/>
            <a:ext cx="2286000" cy="838440"/>
            <a:chOff x="5638680" y="5638680"/>
            <a:chExt cx="2286000" cy="838440"/>
          </a:xfrm>
        </p:grpSpPr>
        <p:sp>
          <p:nvSpPr>
            <p:cNvPr id="76" name="AutoShape 11"/>
            <p:cNvSpPr/>
            <p:nvPr/>
          </p:nvSpPr>
          <p:spPr>
            <a:xfrm>
              <a:off x="563868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586728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7" descr="http://mocoloco.com/art/archives/wilde_world_apr_06.jpg"/>
          <p:cNvPicPr/>
          <p:nvPr/>
        </p:nvPicPr>
        <p:blipFill>
          <a:blip r:embed="rId6"/>
          <a:stretch/>
        </p:blipFill>
        <p:spPr>
          <a:xfrm>
            <a:off x="4572000" y="1828800"/>
            <a:ext cx="4152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8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8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4" descr="C:\Documents and Settings\cstocke\Local Settings\Temporary Internet Files\Content.IE5\85YZK9Q3\MCSO01874_0000[1].wmf"/>
          <p:cNvPicPr/>
          <p:nvPr/>
        </p:nvPicPr>
        <p:blipFill>
          <a:blip r:embed="rId5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393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Histo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397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5562720" y="5638680"/>
            <a:ext cx="2286000" cy="838440"/>
            <a:chOff x="5562720" y="5638680"/>
            <a:chExt cx="2286000" cy="838440"/>
          </a:xfrm>
        </p:grpSpPr>
        <p:sp>
          <p:nvSpPr>
            <p:cNvPr id="400" name="AutoShape 11"/>
            <p:cNvSpPr/>
            <p:nvPr/>
          </p:nvSpPr>
          <p:spPr>
            <a:xfrm>
              <a:off x="55627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7913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"/>
          <p:cNvSpPr/>
          <p:nvPr/>
        </p:nvSpPr>
        <p:spPr>
          <a:xfrm>
            <a:off x="4648320" y="1981080"/>
            <a:ext cx="3500280" cy="3329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40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0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1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41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2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2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2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3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3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44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4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4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5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5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6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46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47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4" descr="C:\Documents and Settings\cstocke\Local Settings\Temporary Internet Files\Content.IE5\AZWRAVGT\MCj03978380000[1].wmf"/>
          <p:cNvPicPr/>
          <p:nvPr/>
        </p:nvPicPr>
        <p:blipFill>
          <a:blip r:embed="rId4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497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Scie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501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504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" descr="http://www.small-world.net/_borders/small_world_logo.gif"/>
          <p:cNvPicPr/>
          <p:nvPr/>
        </p:nvPicPr>
        <p:blipFill>
          <a:blip r:embed="rId5"/>
          <a:stretch/>
        </p:blipFill>
        <p:spPr>
          <a:xfrm>
            <a:off x="5029200" y="1752480"/>
            <a:ext cx="25527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50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516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52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3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54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5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56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58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8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9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9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9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1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2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25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2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3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37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4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4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4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Denver Public Schools</cp:lastModifiedBy>
  <dcterms:modified xsi:type="dcterms:W3CDTF">2007-06-18T15:16:38Z</dcterms:modified>
  <cp:revision>117</cp:revision>
  <dc:subject/>
  <dc:title>Museum of World Stuff</dc:title>
</cp:coreProperties>
</file>